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22D5-AA98-4436-8C07-2E48E2FE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ABE-962D-4A30-94B2-5D6C6C29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9844-82A0-496A-A644-4F2D29A9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1EB2-5AE6-408C-A128-A2265FCD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E5E-BA37-471B-A356-A8E5C35F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41B-BDE7-473C-BEBA-1F7E231F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BB3-D253-40C3-86ED-FD85B402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EE7-DE7D-4872-B078-34C1E231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C86-641B-4F36-95C0-E3E39A3F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B59B-D290-4938-957E-FCEB9706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6EE-C644-450B-BD4B-46397D12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E30-847C-4771-ACF5-CCACBCAE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FC0C-1CDF-48AD-9A67-9D2A96842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Chapters 9 and 10 Review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, February 19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More definitions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ment or statements reviewing the major ideas of a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lar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clusion that repeats or refers to the material used in the attention-getting step of the int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) What are the functions of a speech introduction?  (hint: there are five of th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 attention of your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your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the importance of your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your credibility on your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ew the key ideas of your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Getting your audience’s attention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) What are strategies for getting your audience’s attention? (name at least five out of sev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your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se curi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e imag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ise something bene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use your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ize your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 and compliment your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Conclusion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) What are the functions of a speech conclusion? (hint: there are three of th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your key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ate audience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One through three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l divi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from cause to effect, or from effect to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ologic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according to time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emonic or gimmick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according to a special memory device, such as alliteration, rhyme, or initial letters to spell a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Four and five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-plan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a variation of problem-solution organization that (1) establishes a need or deficiency, (2) offers a proposal to meet the need, (3) shows how the plans satisfies the need, and (4) suggests a plan for implementing the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-solution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a rigid organizational pattern that establishes a compelling problem and offers one or more convincing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Six through eight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-con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according to arguments for and against some policy, position, or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according to the geography or physical structure of the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according aspects, or subtopics of the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The 4-S strategy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9) What is the “4 S” strategy?  Explain why this strategy is effective, and describe each ste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signpost th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state th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support th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summarize th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y it is important: the 4 S strategy provides a basic template for organizing any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Pro-con or pro-con-assessment?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) Why would a speaker change from a pro-con to a pro-con-assessment division for their speech? Explain your answer thoroughl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hoose to defend the stronger position (pro or con), then your speech becomes pro-con-assessment.  Pro-con is more appropriate for informative speeches; pro-con-assessment is more appropriate for persuasives spee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Transitions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) What is a transition?  Why are they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ansition is a statement connecting one though to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causal, complementary, chronological, and contrasting transitions.  Pick a topic and give examples of each type of transition for that top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l: emphasizes a cause and effect relationship between two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: adds one idea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ological: shows how one idea precedes or follows another 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sting: shows how two ideas di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Organizing question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) What is an organizing question?  Why is it importa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rganizing question is one that will help you determine what ideas and information are necessary to develop your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Definitions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etorical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question designed to stimulate thought without demanding an overt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question that asks for an overt response from listen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ement that orients the audience by revealing how the speech has organized the body of the spee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6:18:44Z</dcterms:created>
  <dc:creator>nuhs</dc:creator>
  <dc:description/>
  <dc:language>en-US</dc:language>
  <cp:lastModifiedBy>nuhs</cp:lastModifiedBy>
  <dcterms:modified xsi:type="dcterms:W3CDTF">2008-02-19T22:16:54Z</dcterms:modified>
  <cp:revision>4</cp:revision>
  <dc:subject/>
  <dc:title>Chapters 9 and 10 Review</dc:title>
</cp:coreProperties>
</file>